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AB9-22BF-48D3-B03C-638F9872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38C-9D76-4EFA-851A-AD21D3D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045-08C8-4BD0-BAA9-D8397ED6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60C-1F5C-4025-BBEE-32437A97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295-B2DC-402B-9B3D-AAAECF69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CF0-4099-44B2-AACA-30A5CFA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8A6-BC61-4B0A-B2C5-848920B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1E0-2EDE-4F9D-90AE-1E15A06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6BB-52B7-44A7-9896-1D8C92A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624-D04C-4935-B31C-C5249A8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3ED-965D-4E5F-8D4D-2256DB6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1AA-ACE4-4D31-A395-FC41736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5095-77A7-4D6E-9438-8970DBCD74A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eum.org/berlinwall/two_sides_one_story/a_clash_of_ideas/radio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ewseum.org/berlinwall/two_sides_one_story/a_clash_of_ideas/newspapers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newseum.org/berlinwall/two_sides_one_story/a_clash_of_ideas/berlin_airlift.htm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hyperlink" Target="http://www.newseum.org/berlinwall/two_sides_one_story/the_barriers_rise/radio.htm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3962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WHY WAS THE BERLIN WALL BUI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327672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BACKGROUND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1945, WWII ended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Germany was in ruins; everything had to be rebuil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including the Media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Allies split Berlin &amp; Germany into 4 zones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USA, Britain, France, and the USSR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1949: the USA, Britain, France zones were combined into ‘West Germany’; USSR formed ‘East  Germany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3276720" cy="2361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A CLASH OF IDEAS: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* USA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Democrac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Freedom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A privately owned press (without  government control) was built in West Germany (by military forces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People could read &amp; do what they want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*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USSR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Socialist Republic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government controlled all economic activities: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Including the Medi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News = teaching too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People were supposed to read and learn what the government wanted them to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/>
          </p:cNvPr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92160" y="4343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76320" y="51814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Berlin Air Lift">
            <a:hlinkClick r:id="rId6"/>
          </p:cNvPr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6320" y="6019920"/>
            <a:ext cx="514080" cy="51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343400"/>
            <a:ext cx="3124440" cy="6858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ADIO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May 1945, Immediately took over Berlin's                         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only surviving radio transmitter (refusing to let th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other Allies to use it)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A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Nov. 1945, Started DIAS (Drahtfunk): telephon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wires that carried signals to special home recei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3124440" cy="7617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NEWSPAPE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EAS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) Written voice of the state. All new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were used “to direct the thinking of the peopl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into correct political lines”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WEST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Free press model. Oct. 18 1945: ‘Neu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Zeitung’  was established. In the West, nearly 20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papers were in 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943600"/>
            <a:ext cx="3124440" cy="762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THE BERLIN BLOCKADE: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1948 the USSR blockaded West Germany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The West launched ‘The Berlin Airlift’, flying 8,000 tons of food and other necessities to the 2.5 million Berliner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May 1949: Blockade was lif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4952880" cy="1524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THE BARRIER RISES: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By 1961, 1,000 people </a:t>
            </a:r>
            <a:r>
              <a:rPr b="0" i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a day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fled from East Germany to West German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Many who escaped were young and trained professionals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West Media reported the exodus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The East (censored) media ignored i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August 13, 1961: the East German government built a 27-mile-long wall of barbed wir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splitting East from West Berlin to ‘protect citizens from capitalism’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elephone lines &amp; mail service between East and West Germany were cu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Citizens in the East couldn’t visit the We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Wire was then replaced  with stones, steel, and (army) force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BERLIN WALL WAS BUI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rcRect l="0" t="3929" r="5098" b="5894"/>
          <a:stretch/>
        </p:blipFill>
        <p:spPr>
          <a:xfrm>
            <a:off x="3809880" y="2666880"/>
            <a:ext cx="224172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rId9"/>
          </p:cNvPr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6095880" y="306720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>
            <a:lum bright="24000"/>
          </a:blip>
          <a:stretch/>
        </p:blipFill>
        <p:spPr>
          <a:xfrm>
            <a:off x="6095880" y="40575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>
            <a:lum bright="24000"/>
          </a:blip>
          <a:stretch/>
        </p:blipFill>
        <p:spPr>
          <a:xfrm>
            <a:off x="6172200" y="5048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>
            <a:lum bright="30000"/>
          </a:blip>
          <a:stretch/>
        </p:blipFill>
        <p:spPr>
          <a:xfrm>
            <a:off x="6172200" y="61149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2666880"/>
            <a:ext cx="2489040" cy="10670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ADIO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: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August 13, East German radi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broadcasted…they were grateful to b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protected from the criminals in the West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(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WEST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The US sector radio report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that wire fences were sealing off th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border, and that Soviet tanks rolled int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East Berlin.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11448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新細明體"/>
              </a:rPr>
              <a:t>-CHRISTINE SHIH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3809880"/>
            <a:ext cx="2514600" cy="9144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NEWSPAPE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Neues Deutschland (Eas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German newspaper) … no mention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of the government’s plan to buil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the border…announced that th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wall was for protection…Aug 14,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protesters were arres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800600"/>
            <a:ext cx="2438280" cy="9144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SHOT AT THE WALL: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August 17, 1962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Peter Fechter (18 year-old bricklayer) tried to jump  over the wall.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East German soldiers fired and wouldn’t allow anyone to help Fechter </a:t>
            </a:r>
            <a:r>
              <a:rPr b="0" lang="en-US" sz="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he di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50th casua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5791320"/>
            <a:ext cx="2438280" cy="990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EPOR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August 1961, Kellett-Long reported (from East Berlin) to London about the increasing tensions (e.g. Police harassing passengers travelling to the West)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The report didn’t get to London (it was censo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5720" y="4495680"/>
            <a:ext cx="227016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SUMMARY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The Berlin Wall was built because…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1. WEST: democracy (free speech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EAST: Communism (repression, no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freedom of speech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2. Higher living standards in the Wes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than in the East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1948: We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Germany  got financial help from th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Marshall plan (USA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3. 1949-1961: more than 2.6 mill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East Berliners fled to West Berli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East Germany was rapidly losing both its labour force and it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33520"/>
            <a:ext cx="495288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SUCCESSES OF THE WEST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Capitalist society &amp; Marshall Aid (1948)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rapid economy growth (“the economic miracle”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West Germany: able to live well, buy gadgets and appliances, and to tra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2:11:48Z</dcterms:created>
  <dc:creator>shihc</dc:creator>
  <dc:description/>
  <dc:language>en-US</dc:language>
  <cp:lastModifiedBy>kevin</cp:lastModifiedBy>
  <dcterms:modified xsi:type="dcterms:W3CDTF">2011-03-04T01:52:27Z</dcterms:modified>
  <cp:revision>38</cp:revision>
  <dc:subject/>
  <dc:title>WHY WAS THE BERLIN WALL BUILT?</dc:title>
</cp:coreProperties>
</file>